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C743-F3BA-4EFD-A280-9C0E4E1F60E8}" type="slidenum">
              <a:rPr b="0" lang="da-D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86AF-D213-4E28-8B1B-21609AEA20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9228-83E8-4E65-827F-06FFE3C6A6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FBEB-8BCA-4312-8B65-4149A44532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B094-5168-4404-86EC-7C60302AF0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B025-0995-48E0-9B5A-35CED7C558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0FFB-03C1-4F5B-94C0-5DE6E8AA2B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C242-8428-4141-8D1F-10DDF77B2A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3F40-ECF1-46BC-B345-AD27E9E658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9728-936C-49A3-982A-55A3969FC3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83D-DF30-44F2-AB64-706E456D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450-2849-455B-B29A-88946A5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1C99-3064-4E93-AC4C-049E7073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3EA-02E3-45D2-8B31-A49A392A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73E0-B9EB-49F3-8472-36138A15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4D2B-6E7E-4AB7-B126-7F526EDB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24CC-4A29-4B75-BFA2-3BC5B138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0726-3448-4345-9E7E-12BF4721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2691-FC75-44CC-A81E-E69C53A9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AD50-BCF7-479E-9018-8BF28A25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6703-FD47-4DCE-96FB-40746B9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259-30BC-44D8-A33F-C8D3C543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2149-64FD-4F8B-8D84-410E2FED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6198-79E5-478F-9E83-04F50D1B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910A-D1D3-409A-9AD5-DC8E315A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9551-3E3E-4973-A92B-6686D9BC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A915-2EEE-4B27-816F-1190800A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AB2D-44CB-4424-96D2-A3F024DC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1F33-3F10-454E-B898-F5C5B064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4DB1-7DCD-415B-8231-11458FA0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A906-1C84-4FE0-ADC3-4B5BD4D1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442B-75A4-4F6F-AE0A-4D9E80EC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5D8-DAA2-4F28-BEBE-FCD058E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251F-53DB-47BE-A8F0-AF3881F8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5E2A-AA35-45F1-B61F-3D0C1CC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86A1-5FD4-41DC-81C1-ECFBDE50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8714-2F0A-4D2D-A42E-6E9D1FC3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301E-D568-45AA-A209-287B0AAD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CF33-BEF5-491C-84A4-DC930B18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B37C-9410-45BA-B68E-5E39556E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A1F34-8A8B-4368-9BC7-12E15E3E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5A3D2-066C-4A10-A60F-2A6D605C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2A37-923E-4BC5-A3E9-B0AEC8E5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F3C-EB55-406C-8E49-435D998F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FE3EF-4861-4953-9018-A3E72D6B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3BB8-217F-4D8B-993D-D9B234C4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A6565-0EAD-4688-A256-42CC5142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CC93-1017-48B5-88D9-4F4ED250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4E8E-B882-47D8-82F1-84969E7C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4B606-8CBC-4D5A-A981-940FA54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E744C-4769-4DF6-AECB-779732EA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EEB7-A39A-4663-9F0C-51D0DC34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44C12-34D8-4AE6-A9AF-A47DF854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CF1-C5A3-495F-B914-EE56766F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398-89A9-420E-AA1C-2142BFD7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FE0-3D63-454A-ADD6-A146BDA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E5C-A48F-4EF7-A433-B9386A21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F6A-E3CC-468F-BD48-74DE6760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7D14-1FB6-435D-A384-BB887F1296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030-6AC4-4243-9D5C-8540C71B0F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142D-5568-40D8-89AB-B7F060CD32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C2C8-56FC-4CDC-AC4B-C132276B76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FPGA Her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5570640" cy="4371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6657480" y="60213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1400" spc="-1" strike="noStrike">
                <a:solidFill>
                  <a:srgbClr val="000000"/>
                </a:solidFill>
                <a:latin typeface="Arial"/>
              </a:rPr>
              <a:t>Guitar Hero in VH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Controller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hort pul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Low band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Few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Chose HDL, instead of IR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D C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Fast clk (up to 50MHz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Loose timing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o get a high throughput HDL is a m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We chose software because of existing library (Demonstration system for DE1 boa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File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Using existing GPL library called DOS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Billede 5" descr="SOPC overview.wmf"/>
          <p:cNvPicPr/>
          <p:nvPr/>
        </p:nvPicPr>
        <p:blipFill>
          <a:blip r:embed="rId1"/>
          <a:stretch/>
        </p:blipFill>
        <p:spPr>
          <a:xfrm>
            <a:off x="930240" y="1285920"/>
            <a:ext cx="728496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8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OPC 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oftware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Billede 9" descr="fpga hero software.emf"/>
          <p:cNvPicPr/>
          <p:nvPr/>
        </p:nvPicPr>
        <p:blipFill>
          <a:blip r:embed="rId1"/>
          <a:stretch/>
        </p:blipFill>
        <p:spPr>
          <a:xfrm>
            <a:off x="1279440" y="903240"/>
            <a:ext cx="657864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30040" y="426960"/>
            <a:ext cx="82278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al Guitar Hero Graph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2286000" y="2101680"/>
            <a:ext cx="4572000" cy="37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1360" y="499680"/>
            <a:ext cx="8227800" cy="11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simpl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57200" y="2171880"/>
            <a:ext cx="4014720" cy="33922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72080" y="1912680"/>
            <a:ext cx="40147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graph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uare no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ack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 and miss are shown by changing the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for h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genta for mi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58760" y="49824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11040" y="2133360"/>
            <a:ext cx="493236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: V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ution: 640 x 48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 rate: 60 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nected to 4 bit DA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30040" y="426960"/>
            <a:ext cx="8227800" cy="11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of VG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72080" y="204624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57200" y="2265480"/>
            <a:ext cx="401472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01680" y="49968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GA ti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72080" y="160488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88880" y="1633680"/>
            <a:ext cx="3919680" cy="1958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488880" y="3957480"/>
            <a:ext cx="391968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oject 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ystem 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O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Gui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t, miss and sc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816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t and miss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in to Graphical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: CharR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ing Hex sc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822816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58760" y="190332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: CharRO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ing Hex sc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8228160" cy="11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GA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87480" y="1974960"/>
            <a:ext cx="765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DAC resister network for R, G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l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816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put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l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uitar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Pladsholder til indhold 3" descr="guitar.eps"/>
          <p:cNvPicPr/>
          <p:nvPr/>
        </p:nvPicPr>
        <p:blipFill>
          <a:blip r:embed="rId1"/>
          <a:stretch/>
        </p:blipFill>
        <p:spPr>
          <a:xfrm>
            <a:off x="357120" y="2143080"/>
            <a:ext cx="8501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P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tandard S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Command commun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Polls via S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Recieves Actual button p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s able to send 8 bit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Changing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Guitar will not work in standard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Change to Analo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ending several comma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142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ecoding MIDI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Contains info about the mus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Only guitar notes ar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anks to the ”Frets on fire”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8440" y="2999880"/>
            <a:ext cx="742932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Questions / Fråg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how the power of fast prototyping in SO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 project with a lot of technological po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Use VHDL for a non traditional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1951200" y="2017800"/>
            <a:ext cx="524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Wh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Engineering College of Aarh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aul Martin Bendix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Morten Stigaard Laur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Henrik Hagen Rasmus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Kim Arild St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How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OPC for the system layout (NIOS II, Avalon bus et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elfmade VHD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P’s for the remaining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Wh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Decoding of MIDI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nterfacing with PS2 guitar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nterfacing with VG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Communication via the Avalon b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Interfacing with audio codec and SD 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NIOS 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ystem Com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ahoma"/>
              </a:rPr>
              <a:t>VG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ahoma"/>
              </a:rPr>
              <a:t>MIDI decod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ahoma"/>
              </a:rPr>
              <a:t>Controller interfa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ahoma"/>
              </a:rPr>
              <a:t>SD Car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ahoma"/>
              </a:rPr>
              <a:t>Filesyste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Tahoma"/>
              </a:rPr>
              <a:t>Gamepla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Tahoma"/>
              </a:rPr>
              <a:t>Score upd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000000"/>
                </a:solidFill>
                <a:latin typeface="Tahoma"/>
              </a:rPr>
              <a:t>Hit or miss a n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VGA and Gamepl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25MHz pixel C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trict timing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Few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deal for HDL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Aud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iming requirements (I2S bu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More complex initialization (I2C bu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High complexity for init, low complexity for ru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Can be split in HDL and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HDL part taken from Demonstration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0:19:55Z</dcterms:created>
  <dc:creator>Kim</dc:creator>
  <dc:description/>
  <dc:language>en-US</dc:language>
  <cp:lastModifiedBy>lengdahl</cp:lastModifiedBy>
  <dcterms:modified xsi:type="dcterms:W3CDTF">2008-09-09T04:52:14Z</dcterms:modified>
  <cp:revision>19</cp:revision>
  <dc:subject/>
  <dc:title>FPGA Hero</dc:title>
</cp:coreProperties>
</file>