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4019040" y="0"/>
            <a:ext cx="30783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8C86CFA-C44C-428F-B46E-FB965527D6C5}" type="datetime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972036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401904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00E9704-5F74-4273-9CE9-045373908206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4 mem accesses -&gt; 8 clock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8 clock cycles to fecth 8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ave to output  a pixel every clock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hift regis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Fecth byte from NT -&gt; index to 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Fetch byte from AT -&gt; select 2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Fetch first byte from PT -&gt; store it in upper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Fetch second byte from PT -&gt; store it in upper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Repeted 32 times to output 256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synchronous reads by CPU using a higher speed clock on reg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VRAM synchronized on PPU 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buffer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- different output speed from ppu and to v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PPU pixel output speed: appr 5,3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VGA output speed: 25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5 cycles per pixel in 50 MHz =&gt; 2,5*256 = 640 in 25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tretched pixels in original 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quare pixels easy to impl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- black e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- 4 clk per pi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ifferent interpolation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ave screen: maybe even possible to save game screen as jpeg by using the nios to convert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s there someone in here who does not know what the NES 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Fix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wo pattern tables at $0000 and $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least significant two bits of the 4-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Matrix of til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B5E1A-DA8F-4849-B2B9-669C39D7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F6EC6-70F0-4EA7-969F-43D816F5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11A64-F4BA-4452-96AF-DF36612F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647BA-CF6C-49F2-9697-BF5D7F9D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124BD-E521-4869-A0C9-BA344910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F012F-1E2E-4076-9767-A57F6401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2F642-8C03-4216-9AB1-36DB1A6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FDC1E-470C-4234-8888-F4FE80DE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BC90C-3D78-44CE-8FD2-EC05F84C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5E009-D332-442D-895B-9672DB06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3D6F6-BA28-4DA1-970B-11F2E748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5FF3E-F62D-4D87-8403-4AB108B7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829" t="27611" r="5819" b="64420"/>
          <a:stretch/>
        </p:blipFill>
        <p:spPr>
          <a:xfrm>
            <a:off x="0" y="633564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7ca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250920" y="6431040"/>
            <a:ext cx="507960" cy="344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820000" y="6362640"/>
            <a:ext cx="395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5DDB-39D9-4C2D-8A2D-CE16C38F42A8}" type="slidenum">
              <a:rPr b="0" lang="sv-SE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68360" y="6399000"/>
            <a:ext cx="71928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060720" y="6399000"/>
            <a:ext cx="302400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101080" y="115920"/>
            <a:ext cx="93960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1692360" y="6243480"/>
            <a:ext cx="10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2916000" y="6237360"/>
            <a:ext cx="30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217920" y="6243480"/>
            <a:ext cx="152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9473-E509-4E58-A61A-532CC640BCAF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8000" y="5732640"/>
            <a:ext cx="936720" cy="92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765920" y="5300640"/>
            <a:ext cx="1370160" cy="1557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1829" t="0" r="5819" b="0"/>
          <a:stretch/>
        </p:blipFill>
        <p:spPr>
          <a:xfrm>
            <a:off x="0" y="-1908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98cff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198cff"/>
              </a:solidFill>
              <a:latin typeface="Arial"/>
            </a:endParaRPr>
          </a:p>
          <a:p>
            <a:pPr lvl="1" marL="344520" indent="0"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Aft>
                <a:spcPts val="799"/>
              </a:spcAft>
              <a:buClr>
                <a:srgbClr val="457ca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Aft>
                <a:spcPts val="700"/>
              </a:spcAft>
              <a:buClr>
                <a:srgbClr val="457ca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intendo Entertainment System on a chip</a:t>
            </a:r>
            <a:endParaRPr b="0" lang="en-US" sz="1800" spc="-1" strike="noStrike">
              <a:solidFill>
                <a:srgbClr val="198cff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198cff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ffffff"/>
                </a:solidFill>
                <a:latin typeface="Arial"/>
              </a:rPr>
              <a:t>Patrik Eliardsson</a:t>
            </a:r>
            <a:endParaRPr b="0" lang="en-US" sz="1500" spc="-1" strike="noStrike">
              <a:solidFill>
                <a:srgbClr val="198cff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ffffff"/>
                </a:solidFill>
                <a:latin typeface="Arial"/>
              </a:rPr>
              <a:t>Per Karlström</a:t>
            </a:r>
            <a:endParaRPr b="0" lang="en-US" sz="1500" spc="-1" strike="noStrike">
              <a:solidFill>
                <a:srgbClr val="198cff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ffffff"/>
                </a:solidFill>
                <a:latin typeface="Arial"/>
              </a:rPr>
              <a:t>Richard Eklycke</a:t>
            </a:r>
            <a:endParaRPr b="0" lang="en-US" sz="1500" spc="-1" strike="noStrike">
              <a:solidFill>
                <a:srgbClr val="198cff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ffffff"/>
                </a:solidFill>
                <a:latin typeface="Arial"/>
              </a:rPr>
              <a:t>Ulrika Uppman</a:t>
            </a:r>
            <a:endParaRPr b="0" lang="en-US" sz="1500" spc="-1" strike="noStrike">
              <a:solidFill>
                <a:srgbClr val="198c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962840" y="5516640"/>
            <a:ext cx="1181160" cy="1341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727236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PPU – Scanline Details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85690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PPU – Frame Details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00360" y="1699920"/>
            <a:ext cx="395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0654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PPU – Fetch Background Tiles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90720" y="1467000"/>
            <a:ext cx="716256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7cae"/>
                </a:solidFill>
                <a:latin typeface="Arial"/>
              </a:rPr>
              <a:t>PPU - Registers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$2000 Control Register 1 (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$2001 Control Register 2 (Mask Register) (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$2002 Status Register 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$2003 SPR-RAM Address Register (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$2004 SPR-RAM Data Register (R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$2005 PPU Background Scrolling Offset (W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$2006 VRAM Address Register (W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$2007 VRAM Read/Write Data Register (R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7cae"/>
                </a:solidFill>
                <a:latin typeface="Arial"/>
              </a:rPr>
              <a:t>VGA 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ing of PPU out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S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reading and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read/writ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to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256x240 to 640x4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line tw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cycles per pixel in 5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tched”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7cae"/>
                </a:solidFill>
                <a:latin typeface="Arial"/>
              </a:rPr>
              <a:t>Sound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udio Processing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ample of subsystem – Squar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ound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Audio Processing Unit (APU)</a:t>
            </a:r>
            <a:br>
              <a:rPr sz="3200"/>
            </a:b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- Introduction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5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2 square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1 triangl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1 nois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1 delta modul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tatus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Audio Processing Unit (APU)</a:t>
            </a:r>
            <a:br>
              <a:rPr sz="3200"/>
            </a:b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 - System Overview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20920" y="2060640"/>
            <a:ext cx="66801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721560" y="292428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95920" y="234936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70280" y="234936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4005360"/>
            <a:ext cx="619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Audio Processing Unit (APU)</a:t>
            </a:r>
            <a:br>
              <a:rPr sz="3200"/>
            </a:b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 - Square Channel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8000" y="3754440"/>
            <a:ext cx="1673280" cy="503280"/>
            <a:chOff x="108000" y="3754440"/>
            <a:chExt cx="1673280" cy="503280"/>
          </a:xfrm>
        </p:grpSpPr>
        <p:sp>
          <p:nvSpPr>
            <p:cNvPr id="142" name=""/>
            <p:cNvSpPr/>
            <p:nvPr/>
          </p:nvSpPr>
          <p:spPr>
            <a:xfrm>
              <a:off x="108000" y="3754440"/>
              <a:ext cx="1673280" cy="503280"/>
            </a:xfrm>
            <a:prstGeom prst="rect">
              <a:avLst/>
            </a:prstGeom>
            <a:gradFill rotWithShape="0">
              <a:gsLst>
                <a:gs pos="0">
                  <a:srgbClr val="bc004c"/>
                </a:gs>
                <a:gs pos="100000">
                  <a:srgbClr val="ff3300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022400" indent="-351000" algn="ctr">
                <a:spcBef>
                  <a:spcPts val="2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9240" y="3822840"/>
              <a:ext cx="14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Envelo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033640" y="1881360"/>
            <a:ext cx="1673280" cy="2557440"/>
            <a:chOff x="2033640" y="1881360"/>
            <a:chExt cx="1673280" cy="2557440"/>
          </a:xfrm>
        </p:grpSpPr>
        <p:sp>
          <p:nvSpPr>
            <p:cNvPr id="145" name=""/>
            <p:cNvSpPr/>
            <p:nvPr/>
          </p:nvSpPr>
          <p:spPr>
            <a:xfrm rot="5400000">
              <a:off x="2438640" y="3718800"/>
              <a:ext cx="863640" cy="576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c004c"/>
                </a:gs>
                <a:gs pos="100000">
                  <a:srgbClr val="ff3300"/>
                </a:gs>
              </a:gsLst>
              <a:lin ang="81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033640" y="1881360"/>
              <a:ext cx="1673280" cy="502920"/>
              <a:chOff x="2033640" y="1881360"/>
              <a:chExt cx="1673280" cy="502920"/>
            </a:xfrm>
          </p:grpSpPr>
          <p:sp>
            <p:nvSpPr>
              <p:cNvPr id="147" name=""/>
              <p:cNvSpPr/>
              <p:nvPr/>
            </p:nvSpPr>
            <p:spPr>
              <a:xfrm>
                <a:off x="2033640" y="1881360"/>
                <a:ext cx="1673280" cy="502920"/>
              </a:xfrm>
              <a:prstGeom prst="rect">
                <a:avLst/>
              </a:prstGeom>
              <a:gradFill rotWithShape="0">
                <a:gsLst>
                  <a:gs pos="0">
                    <a:srgbClr val="bc004c"/>
                  </a:gs>
                  <a:gs pos="100000">
                    <a:srgbClr val="ff3300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022400" indent="-351000" algn="ctr">
                  <a:spcBef>
                    <a:spcPts val="249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144880" y="1949400"/>
                <a:ext cx="14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ecff"/>
                    </a:solidFill>
                    <a:latin typeface="Arial"/>
                  </a:rPr>
                  <a:t>Swee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3959280" y="1879560"/>
            <a:ext cx="1673280" cy="2559240"/>
            <a:chOff x="3959280" y="1879560"/>
            <a:chExt cx="1673280" cy="2559240"/>
          </a:xfrm>
        </p:grpSpPr>
        <p:sp>
          <p:nvSpPr>
            <p:cNvPr id="150" name=""/>
            <p:cNvSpPr/>
            <p:nvPr/>
          </p:nvSpPr>
          <p:spPr>
            <a:xfrm rot="5400000">
              <a:off x="4364640" y="3718800"/>
              <a:ext cx="863640" cy="576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c004c"/>
                </a:gs>
                <a:gs pos="100000">
                  <a:srgbClr val="ff3300"/>
                </a:gs>
              </a:gsLst>
              <a:lin ang="81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959280" y="1879560"/>
              <a:ext cx="1673280" cy="503280"/>
              <a:chOff x="3959280" y="1879560"/>
              <a:chExt cx="1673280" cy="503280"/>
            </a:xfrm>
          </p:grpSpPr>
          <p:sp>
            <p:nvSpPr>
              <p:cNvPr id="152" name=""/>
              <p:cNvSpPr/>
              <p:nvPr/>
            </p:nvSpPr>
            <p:spPr>
              <a:xfrm>
                <a:off x="3959280" y="1879560"/>
                <a:ext cx="1673280" cy="503280"/>
              </a:xfrm>
              <a:prstGeom prst="rect">
                <a:avLst/>
              </a:prstGeom>
              <a:gradFill rotWithShape="0">
                <a:gsLst>
                  <a:gs pos="0">
                    <a:srgbClr val="bc004c"/>
                  </a:gs>
                  <a:gs pos="100000">
                    <a:srgbClr val="ff3300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022400" indent="-351000" algn="ctr">
                  <a:spcBef>
                    <a:spcPts val="249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70520" y="1947960"/>
                <a:ext cx="14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ecff"/>
                    </a:solidFill>
                    <a:latin typeface="Arial"/>
                  </a:rPr>
                  <a:t>Timer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959280" y="2638440"/>
              <a:ext cx="1673280" cy="503280"/>
              <a:chOff x="3959280" y="2638440"/>
              <a:chExt cx="1673280" cy="503280"/>
            </a:xfrm>
          </p:grpSpPr>
          <p:sp>
            <p:nvSpPr>
              <p:cNvPr id="155" name=""/>
              <p:cNvSpPr/>
              <p:nvPr/>
            </p:nvSpPr>
            <p:spPr>
              <a:xfrm>
                <a:off x="3959280" y="2638440"/>
                <a:ext cx="1673280" cy="503280"/>
              </a:xfrm>
              <a:prstGeom prst="rect">
                <a:avLst/>
              </a:prstGeom>
              <a:gradFill rotWithShape="0">
                <a:gsLst>
                  <a:gs pos="0">
                    <a:srgbClr val="bc004c"/>
                  </a:gs>
                  <a:gs pos="100000">
                    <a:srgbClr val="ff3300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022400" indent="-351000" algn="ctr">
                  <a:spcBef>
                    <a:spcPts val="249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70520" y="2706840"/>
                <a:ext cx="14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ecff"/>
                    </a:solidFill>
                    <a:latin typeface="Arial"/>
                  </a:rPr>
                  <a:t>Sequenc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5884920" y="2637000"/>
            <a:ext cx="1672920" cy="1800000"/>
            <a:chOff x="5884920" y="2637000"/>
            <a:chExt cx="1672920" cy="1800000"/>
          </a:xfrm>
        </p:grpSpPr>
        <p:sp>
          <p:nvSpPr>
            <p:cNvPr id="158" name=""/>
            <p:cNvSpPr/>
            <p:nvPr/>
          </p:nvSpPr>
          <p:spPr>
            <a:xfrm rot="5400000">
              <a:off x="6289920" y="3717000"/>
              <a:ext cx="863640" cy="576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c004c"/>
                </a:gs>
                <a:gs pos="100000">
                  <a:srgbClr val="ff3300"/>
                </a:gs>
              </a:gsLst>
              <a:lin ang="81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884920" y="2637000"/>
              <a:ext cx="1672920" cy="502920"/>
              <a:chOff x="5884920" y="2637000"/>
              <a:chExt cx="1672920" cy="502920"/>
            </a:xfrm>
          </p:grpSpPr>
          <p:sp>
            <p:nvSpPr>
              <p:cNvPr id="160" name=""/>
              <p:cNvSpPr/>
              <p:nvPr/>
            </p:nvSpPr>
            <p:spPr>
              <a:xfrm>
                <a:off x="5884920" y="2637000"/>
                <a:ext cx="1672920" cy="502920"/>
              </a:xfrm>
              <a:prstGeom prst="rect">
                <a:avLst/>
              </a:prstGeom>
              <a:gradFill rotWithShape="0">
                <a:gsLst>
                  <a:gs pos="0">
                    <a:srgbClr val="bc004c"/>
                  </a:gs>
                  <a:gs pos="100000">
                    <a:srgbClr val="ff3300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022400" indent="-351000" algn="ctr">
                  <a:spcBef>
                    <a:spcPts val="249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95800" y="2705040"/>
                <a:ext cx="144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ecff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7812000" y="3716280"/>
            <a:ext cx="1170000" cy="503280"/>
            <a:chOff x="7812000" y="3716280"/>
            <a:chExt cx="1170000" cy="503280"/>
          </a:xfrm>
        </p:grpSpPr>
        <p:sp>
          <p:nvSpPr>
            <p:cNvPr id="163" name=""/>
            <p:cNvSpPr/>
            <p:nvPr/>
          </p:nvSpPr>
          <p:spPr>
            <a:xfrm>
              <a:off x="7812000" y="3716280"/>
              <a:ext cx="1170000" cy="503280"/>
            </a:xfrm>
            <a:prstGeom prst="rect">
              <a:avLst/>
            </a:prstGeom>
            <a:gradFill rotWithShape="0">
              <a:gsLst>
                <a:gs pos="0">
                  <a:srgbClr val="bc004c"/>
                </a:gs>
                <a:gs pos="100000">
                  <a:srgbClr val="ff3300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022400" indent="-351000" algn="ctr">
                <a:spcBef>
                  <a:spcPts val="2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89760" y="3784680"/>
              <a:ext cx="101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Audio Processing Unit (APU)</a:t>
            </a:r>
            <a:br>
              <a:rPr sz="3200"/>
            </a:b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 - Mixer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ome mathematical formulas involving division and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20800" y="1413000"/>
            <a:ext cx="7500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7cae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bout 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Hardware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Aft>
                <a:spcPts val="799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Picture Processing Unit (PP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Aft>
                <a:spcPts val="799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VGA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Aft>
                <a:spcPts val="799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Audio Processing Unit (AP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Aft>
                <a:spcPts val="799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Sound 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est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inal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Audio Processing Unit (APU)</a:t>
            </a:r>
            <a:br>
              <a:rPr sz="3200"/>
            </a:b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 - Mixer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ome mathematical formulas involving division and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Audio Processing Unit (APU)</a:t>
            </a:r>
            <a:br>
              <a:rPr sz="3200"/>
            </a:b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 - Controlling the Channels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332000" y="2133720"/>
          <a:ext cx="6553080" cy="1726920"/>
        </p:xfrm>
        <a:graphic>
          <a:graphicData uri="http://schemas.openxmlformats.org/drawingml/2006/table">
            <a:tbl>
              <a:tblPr/>
              <a:tblGrid>
                <a:gridCol w="865080"/>
                <a:gridCol w="1511280"/>
                <a:gridCol w="4176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dle nnn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aveform sh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ppp ns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requency swe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ppp pp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imer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lll lp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 index and timer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1332000" y="1341360"/>
            <a:ext cx="6264360" cy="4319640"/>
          </a:xfrm>
          <a:prstGeom prst="rect">
            <a:avLst/>
          </a:prstGeom>
          <a:gradFill rotWithShape="0">
            <a:gsLst>
              <a:gs pos="0">
                <a:srgbClr val="bc004c">
                  <a:alpha val="51372"/>
                </a:srgbClr>
              </a:gs>
              <a:gs pos="100000">
                <a:srgbClr val="ff3300">
                  <a:alpha val="51372"/>
                </a:srgbClr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22400" indent="-351000" algn="ctr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7cae"/>
                </a:solidFill>
                <a:latin typeface="Arial"/>
              </a:rPr>
              <a:t>Sound Controller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071720" y="2781360"/>
            <a:ext cx="1295280" cy="1368360"/>
            <a:chOff x="1071720" y="2781360"/>
            <a:chExt cx="1295280" cy="1368360"/>
          </a:xfrm>
        </p:grpSpPr>
        <p:sp>
          <p:nvSpPr>
            <p:cNvPr id="176" name=""/>
            <p:cNvSpPr/>
            <p:nvPr/>
          </p:nvSpPr>
          <p:spPr>
            <a:xfrm>
              <a:off x="1071720" y="2781360"/>
              <a:ext cx="1295280" cy="1368360"/>
            </a:xfrm>
            <a:prstGeom prst="rect">
              <a:avLst/>
            </a:prstGeom>
            <a:gradFill rotWithShape="0">
              <a:gsLst>
                <a:gs pos="0">
                  <a:srgbClr val="bc004c"/>
                </a:gs>
                <a:gs pos="100000">
                  <a:srgbClr val="ff3300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022400" indent="-351000" algn="ctr">
                <a:spcBef>
                  <a:spcPts val="2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22640" y="32828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A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340000" y="2997360"/>
            <a:ext cx="792000" cy="649080"/>
            <a:chOff x="2340000" y="2997360"/>
            <a:chExt cx="792000" cy="649080"/>
          </a:xfrm>
        </p:grpSpPr>
        <p:sp>
          <p:nvSpPr>
            <p:cNvPr id="179" name=""/>
            <p:cNvSpPr/>
            <p:nvPr/>
          </p:nvSpPr>
          <p:spPr>
            <a:xfrm>
              <a:off x="2340000" y="2997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2448000" y="3286080"/>
              <a:ext cx="576360" cy="360360"/>
              <a:chOff x="2448000" y="3286080"/>
              <a:chExt cx="576360" cy="360360"/>
            </a:xfrm>
          </p:grpSpPr>
          <p:sp>
            <p:nvSpPr>
              <p:cNvPr id="181" name=""/>
              <p:cNvSpPr/>
              <p:nvPr/>
            </p:nvSpPr>
            <p:spPr>
              <a:xfrm>
                <a:off x="2448000" y="3467160"/>
                <a:ext cx="576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600280" y="3286080"/>
                <a:ext cx="20808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5654520" y="2781360"/>
            <a:ext cx="1295640" cy="1368360"/>
            <a:chOff x="5654520" y="2781360"/>
            <a:chExt cx="1295640" cy="1368360"/>
          </a:xfrm>
        </p:grpSpPr>
        <p:sp>
          <p:nvSpPr>
            <p:cNvPr id="184" name=""/>
            <p:cNvSpPr/>
            <p:nvPr/>
          </p:nvSpPr>
          <p:spPr>
            <a:xfrm>
              <a:off x="5654520" y="2781360"/>
              <a:ext cx="1295640" cy="1368360"/>
            </a:xfrm>
            <a:prstGeom prst="rect">
              <a:avLst/>
            </a:prstGeom>
            <a:gradFill rotWithShape="0">
              <a:gsLst>
                <a:gs pos="0">
                  <a:srgbClr val="bc004c"/>
                </a:gs>
                <a:gs pos="100000">
                  <a:srgbClr val="ff3300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022400" indent="-351000" algn="ctr">
                <a:spcBef>
                  <a:spcPts val="2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6000" y="328140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COD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47720" y="162864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7400" y="162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132000" y="1628640"/>
            <a:ext cx="1584360" cy="3673440"/>
            <a:chOff x="3132000" y="1628640"/>
            <a:chExt cx="1584360" cy="3673440"/>
          </a:xfrm>
        </p:grpSpPr>
        <p:sp>
          <p:nvSpPr>
            <p:cNvPr id="189" name=""/>
            <p:cNvSpPr/>
            <p:nvPr/>
          </p:nvSpPr>
          <p:spPr>
            <a:xfrm>
              <a:off x="3132000" y="1628640"/>
              <a:ext cx="1584360" cy="3673440"/>
            </a:xfrm>
            <a:prstGeom prst="rect">
              <a:avLst/>
            </a:prstGeom>
            <a:gradFill rotWithShape="0">
              <a:gsLst>
                <a:gs pos="0">
                  <a:srgbClr val="bc004c">
                    <a:alpha val="50196"/>
                  </a:srgbClr>
                </a:gs>
                <a:gs pos="100000">
                  <a:srgbClr val="ff3300">
                    <a:alpha val="50196"/>
                  </a:srgbClr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022400" indent="-351000" algn="ctr">
                <a:spcBef>
                  <a:spcPts val="2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17840" y="1773360"/>
              <a:ext cx="10126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AUD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CTR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276360" y="4076640"/>
              <a:ext cx="1295280" cy="1008000"/>
              <a:chOff x="3276360" y="4076640"/>
              <a:chExt cx="1295280" cy="1008000"/>
            </a:xfrm>
          </p:grpSpPr>
          <p:sp>
            <p:nvSpPr>
              <p:cNvPr id="192" name=""/>
              <p:cNvSpPr/>
              <p:nvPr/>
            </p:nvSpPr>
            <p:spPr>
              <a:xfrm>
                <a:off x="3276360" y="4076640"/>
                <a:ext cx="1295280" cy="1008000"/>
              </a:xfrm>
              <a:prstGeom prst="rect">
                <a:avLst/>
              </a:prstGeom>
              <a:gradFill rotWithShape="0">
                <a:gsLst>
                  <a:gs pos="0">
                    <a:srgbClr val="bc004c"/>
                  </a:gs>
                  <a:gs pos="100000">
                    <a:srgbClr val="ff3300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022400" indent="-351000" algn="ctr">
                  <a:spcBef>
                    <a:spcPts val="249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44760" y="4191120"/>
                <a:ext cx="11556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ecff"/>
                    </a:solidFill>
                    <a:latin typeface="Arial"/>
                  </a:rPr>
                  <a:t>I2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ecff"/>
                    </a:solidFill>
                    <a:latin typeface="Arial"/>
                  </a:rPr>
                  <a:t>CON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3279600" y="2809800"/>
              <a:ext cx="1295280" cy="1008000"/>
              <a:chOff x="3279600" y="2809800"/>
              <a:chExt cx="1295280" cy="1008000"/>
            </a:xfrm>
          </p:grpSpPr>
          <p:sp>
            <p:nvSpPr>
              <p:cNvPr id="195" name=""/>
              <p:cNvSpPr/>
              <p:nvPr/>
            </p:nvSpPr>
            <p:spPr>
              <a:xfrm>
                <a:off x="3279600" y="2809800"/>
                <a:ext cx="1295280" cy="1008000"/>
              </a:xfrm>
              <a:prstGeom prst="rect">
                <a:avLst/>
              </a:prstGeom>
              <a:gradFill rotWithShape="0">
                <a:gsLst>
                  <a:gs pos="0">
                    <a:srgbClr val="bc004c"/>
                  </a:gs>
                  <a:gs pos="100000">
                    <a:srgbClr val="ff3300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022400" indent="-351000" algn="ctr">
                  <a:spcBef>
                    <a:spcPts val="249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48000" y="2924280"/>
                <a:ext cx="11556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ecff"/>
                    </a:solidFill>
                    <a:latin typeface="Arial"/>
                  </a:rPr>
                  <a:t>SE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ecff"/>
                    </a:solidFill>
                    <a:latin typeface="Arial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97" name=""/>
          <p:cNvCxnSpPr>
            <a:stCxn id="192" idx="3"/>
            <a:endCxn id="184" idx="2"/>
          </p:cNvCxnSpPr>
          <p:nvPr/>
        </p:nvCxnSpPr>
        <p:spPr>
          <a:xfrm flipV="1">
            <a:off x="4591080" y="4168440"/>
            <a:ext cx="1712160" cy="4132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4686480" y="2852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710240" y="3141720"/>
            <a:ext cx="890280" cy="360360"/>
            <a:chOff x="4710240" y="3141720"/>
            <a:chExt cx="890280" cy="360360"/>
          </a:xfrm>
        </p:grpSpPr>
        <p:sp>
          <p:nvSpPr>
            <p:cNvPr id="200" name=""/>
            <p:cNvSpPr/>
            <p:nvPr/>
          </p:nvSpPr>
          <p:spPr>
            <a:xfrm>
              <a:off x="4710240" y="3322800"/>
              <a:ext cx="890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945320" y="3141720"/>
              <a:ext cx="3211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932360" y="45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 flipH="1">
            <a:off x="7091280" y="2565360"/>
            <a:ext cx="16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7cae"/>
                </a:solidFill>
                <a:latin typeface="Arial"/>
              </a:rPr>
              <a:t>6502 CPU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emory map of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Writing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6502 CPU</a:t>
            </a:r>
            <a:br>
              <a:rPr sz="3200"/>
            </a:b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 - Background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Released in 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 modified 6502 called 2A03 used in the 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8-bit data bus, 16-bit address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1 accumulator register (A), 2 index register (X,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2 interru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Non-maskable interrupt (N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terrupt Request (IR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6502 CPU</a:t>
            </a:r>
            <a:br>
              <a:rPr sz="3200"/>
            </a:b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 - Implementation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or now, we use a free implementation of the 65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ree65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iming problems with Free65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ome intructions take too many cycles to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Own rewrite of the 65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6502 CPU - Memory Map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971640" y="1197000"/>
          <a:ext cx="7345440" cy="4749840"/>
        </p:xfrm>
        <a:graphic>
          <a:graphicData uri="http://schemas.openxmlformats.org/drawingml/2006/table">
            <a:tbl>
              <a:tblPr/>
              <a:tblGrid>
                <a:gridCol w="1760760"/>
                <a:gridCol w="1382400"/>
                <a:gridCol w="4202280"/>
              </a:tblGrid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ress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es (Page size is 256 by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0000 - $00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 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ro P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0100 - $01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 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ck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0200 - $07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6 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0800 - $0F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 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rror of $0000-$07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0 - $17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 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rror of $0000-$07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800 - $1F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 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rror of $0000-$07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00 - $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 / Output registers (PP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08 - $3F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84 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rror of $2000-$2007 (mulitple tim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000 - $401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 / Output registers (APU, Controll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020 - $5F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60 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ansion 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000 - $7F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92 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e 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00 - $BF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84 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G-ROM lower bank - executable 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C000 - $FF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84 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G-ROM upper bank - executable 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FFFA - $FFF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MI Handler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FFFC - $FFF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 on reset handler routine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FFFE - $FF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 interrupt handler routine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7cae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 complete NES including PPU, APU, 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AC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VGA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RAM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ogram and video pattern ROMs for demon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emory usage: 207031 bits (86%) (... bits for demo RO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ogic usage: 3681 LE (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7cae"/>
                </a:solidFill>
                <a:latin typeface="Arial"/>
              </a:rPr>
              <a:t>Final Words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uture for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tegrate cart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hand contro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HQ2X graphic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evelop our own set of gam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ave screen or gam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We would like to th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l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Department of Electrical Engineering, Linköping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77840" y="138240"/>
            <a:ext cx="7058160" cy="1496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295280" y="6184800"/>
            <a:ext cx="65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ffffff"/>
                </a:solidFill>
                <a:latin typeface="Arial"/>
              </a:rPr>
              <a:t>www.liu.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4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380360" y="5084640"/>
            <a:ext cx="1700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Background of the Project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Nintendo Entertainment System (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 video game 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ntered the market in 1983, 15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Widely 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ver 700 game titles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oject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reating a NES on an FP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se orginal games and contro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evelop our hardware development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System Overview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27280" y="1638360"/>
            <a:ext cx="5689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Difficulties Designing a NES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ifferent clocks for each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Communication between the sub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No official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ost documents are for/by software emulator implementors, no hardware ”think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Video Subsystems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icture Processing Unit (PP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troduction of Video RAM (V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verview of the P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layfield /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p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terfacing with the P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VGA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uffering of the video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ixel s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Picture Processing Unit (PPU)</a:t>
            </a:r>
            <a:br>
              <a:rPr sz="3200"/>
            </a:b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 - VRAM Introduction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attern Tables (tiles for background and spr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16 bytes for each 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256 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Name Tables (index pointer to pattern 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32x30 gives a resultion of 256x2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ttribute tables (1 for each NT, color key for 2x2 t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Color Palettes (1 for background, 1 for spr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13 colours, keyed by 2 bits from Attribute table and 2 bit from Patter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sv-SE" sz="2400" spc="-1" strike="noStrike">
                <a:solidFill>
                  <a:srgbClr val="198cff"/>
                </a:solidFill>
                <a:latin typeface="Verdana"/>
              </a:rPr>
              <a:t>X X</a:t>
            </a:r>
            <a:r>
              <a:rPr b="1" lang="sv-S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v-SE" sz="2400" spc="-1" strike="noStrike">
                <a:solidFill>
                  <a:srgbClr val="ff3300"/>
                </a:solidFill>
                <a:latin typeface="Verdana"/>
              </a:rPr>
              <a:t>X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572000" y="5660640"/>
            <a:ext cx="720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276720" y="5661000"/>
            <a:ext cx="35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2800" y="5805360"/>
            <a:ext cx="33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22400" indent="-35100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ttribute table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580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2400" indent="-351000" algn="ctr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attern table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Picture Processing Unit (PPU)</a:t>
            </a:r>
            <a:br>
              <a:rPr sz="3200"/>
            </a:b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 - VRAM Introduction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p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256 byte sprit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Aft>
                <a:spcPts val="901"/>
              </a:spcAft>
              <a:buClr>
                <a:srgbClr val="457c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4 byte / sprite, gives 64 sp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Aft>
                <a:spcPts val="799"/>
              </a:spcAft>
              <a:buClr>
                <a:srgbClr val="457c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Y-coord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Aft>
                <a:spcPts val="799"/>
              </a:spcAft>
              <a:buClr>
                <a:srgbClr val="457c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Pattern tabl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Aft>
                <a:spcPts val="799"/>
              </a:spcAft>
              <a:buClr>
                <a:srgbClr val="457c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Attribute bits (horizontal flipp, vertical fl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Aft>
                <a:spcPts val="799"/>
              </a:spcAft>
              <a:buClr>
                <a:srgbClr val="457c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X-coord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457cae"/>
                </a:solidFill>
                <a:latin typeface="Arial"/>
              </a:rPr>
              <a:t>PPU – System Overview</a:t>
            </a:r>
            <a:endParaRPr b="0" lang="en-US" sz="3200" spc="-1" strike="noStrike">
              <a:solidFill>
                <a:srgbClr val="457cae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1771560"/>
            <a:ext cx="54864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0:14:46Z</dcterms:created>
  <dc:creator>LiU ER</dc:creator>
  <dc:description/>
  <dc:language>en-US</dc:language>
  <cp:lastModifiedBy>lengdahl</cp:lastModifiedBy>
  <dcterms:modified xsi:type="dcterms:W3CDTF">2008-09-10T04:44:20Z</dcterms:modified>
  <cp:revision>667</cp:revision>
  <dc:subject/>
  <dc:title>PPTmall LiU 2008 engelsk</dc:title>
</cp:coreProperties>
</file>